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0883-FA14-4C82-8A35-426EABB5B2FB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FA83-46B5-4437-B5FA-AF71F19966F4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26F-B7B8-4BF6-B83B-1D6D7240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631-8CAB-4F77-9CA1-698AFF2F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566-3E1A-47B3-BF7B-DA5023E0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92D-1EC8-4297-B463-D00D2D94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AF3C-138B-4C3A-AD8E-CB17A5B8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5217-4483-4DA4-B001-A5EFC166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A5C5-BD81-4671-9ACD-B4BB3601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BACB-F35C-4025-AEA8-6C1E3D84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A827-283B-4F47-B333-D038922E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7DCA-45F6-4ACA-83CB-3E013B29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8B85-6489-431D-B293-20A78C30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D7A-D6C3-4A53-AF4D-CF5B273D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3B67-AE75-4A39-B0DE-F99327F5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4C4C-F1A1-4356-B2B5-BE4F54BB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AB9A-FA31-4AF2-8151-79D0FC79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8249-187D-47B0-83FD-C437A060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989E-4491-4B86-AE4E-F09BE7D6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0DE-D28E-4E76-ADF4-4968457D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745-5D40-49D7-B48C-6DA9FC52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EAC-C5A0-44D1-B08A-C1AB5BF4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1DC-9944-44AA-B0B9-DF8FD148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C87-02FB-46B8-B22D-073354FD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A23-C538-41A8-B3F9-06AE9225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0E9-B826-470A-90E7-890629E8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16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2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91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892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893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94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895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896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897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898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899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900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901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902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903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904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D311-A874-4685-B81B-00D3BDEFE548}" type="slidenum"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91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2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4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904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912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92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893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894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895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96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897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898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899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900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901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902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903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CBBB-EB96-4551-BD21-10668C2C2E0E}" type="slidenum"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oreme.com/bm/fr_collection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Footer Placeholder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U 1.1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th newydd o hysbysebu’n uniongyrchol i’ch cyfrifiadur – doniol neu anweddu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Os ydych yn hoffi cynnwys yr hysbyseb, rydych yn debygol o’i hanfon at ffrin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Yna mae’n troi’n hysbyseb “tafod lleferydd”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ynnyrch sy’n cael ei argymell yn bersono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e hysbysebu feiral yn croesi ffiniau rhyngwladol mewn ffracsiwn o eilia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en nhw’n defnyddio a gwyrdroi cysyniadau o genre, yn chwarae gyda’n rhagdybiaethau o werthoedd sefydliado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en nhw’n cynnwys y gynulleidfa yn y broses o gynhyrchu, dosbarthu, defnyddio a hyrwyddo hysbysebu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e’n ffordd i mewn i’n byd heb orfod talu’r costau trawsyrru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Gallwch anfon neges heb orfod talu’r negesyd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e’r cwmnïau gyda’r cynhyrchion sy’n cael eu hysbysebu’n aml yn gwadu’r hysbysebion hy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e hyn yn ei dro’n gwneud y math o hysbysebu’n fwy deniadol i gynulleidfa – hysbysebu is-feira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hai gwefannau defnyddio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oreme.co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Film.co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atmail.tv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ydd gan y rhain hefyd ddolenni defnyddiol i enghreifftiau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ysbysebu Feir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981080" y="2286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4876c"/>
                </a:solidFill>
                <a:uFillTx/>
                <a:latin typeface="Times New Roman"/>
                <a:hlinkClick r:id="rId1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1:59:58Z</dcterms:created>
  <dc:creator>Castell Alun HS</dc:creator>
  <dc:description/>
  <dc:language>en-US</dc:language>
  <cp:lastModifiedBy>TimData</cp:lastModifiedBy>
  <dcterms:modified xsi:type="dcterms:W3CDTF">2015-05-06T18:22:41Z</dcterms:modified>
  <cp:revision>6</cp:revision>
  <dc:subject/>
  <dc:title>Viral Advertising</dc:title>
</cp:coreProperties>
</file>